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F7EE-47A5-4A92-9DEE-2296939B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D2CB-53F5-4AB4-8B16-C06C9B81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0E01-CBDD-4625-B2EA-85BAB41B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B80A-6C73-4CC6-B53E-D0AD8ADB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CF5D-3BE7-4146-B148-0896F2CD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AFC7-E569-41ED-BD67-6F6480B3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8A03-FE7D-429D-8603-242B9D4B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EC23-2EA2-4BD2-9B08-0610D695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5501-E9C0-42E3-A92E-1A781628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9217-002F-48B1-A70F-E6EFE83A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21F5-3E1C-439C-9455-89207DD1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946B-CA59-4807-8C5E-4079DF19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19E7-4A6D-458D-B339-45295CE7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4FF1-F676-478F-8748-A40F5D7B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5EBA-B083-4EC8-B9D0-868F0DDF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5F6D-8DB8-4E8F-891F-1F497FD1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DEC8-84C6-4315-87F9-1CE331FC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6A1C-D195-4DDB-8AC8-ABCD606E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96A4-7B50-45A9-95B7-CA8A1BE7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9D8D-BE76-4CA3-AB9B-5813055E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1A7D0-7F90-4A31-A1B7-2E945B84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8CC0-6A33-477C-B469-E48E17FF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DE02-8A86-4577-B368-D88AD00C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7333-6517-4DE5-884B-04C7255E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45DE-56D5-48FD-B68E-DE6AF2A2AD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EF59-0A7D-4951-956D-1E54A82495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Big 6 Lesson Pla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nica Car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bjectives and Backgroun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The student will be able to actively research a chosen disease in a proficient ma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The student will be able to put together and present a PowerPoint presen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ask Defini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research a disease for Health class and be able to present a slide show on the top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ust select a topic and have it approved by the teac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cher and students will also brainstorm and generate an outline and rubric for the assig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formation Seeking Strategi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brainstorm and decide that possible sources for information about diseases would be: textbooks, encyclopedias, and medical websit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ocation &amp; Acces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edia specialist helps some students access WebMD and the Mayo Clinic web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tudents look in the encyclopedia for their top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Use of Inform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udent takes notes from WebMD using his own wo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udent has the media specialist photocopy pages out of the encyclopedia for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student creates his/her own slide show and presents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cher discusses the assignment with the class. They talk about what they felt was the hardest part of the assig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ents complete a self-reflection about their assig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-SAIL Standard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1: Accesses information efficiently and effectively to inquire, think critically, and gain knowled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2: Evaluates information critically and competently to draw conclusions, make informed decisions, apply knowledge to new situations, and create new knowled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3: Uses information accurately, creatively, and ethically to share knowledge and participate ethically and productively as members of our democratic socie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3:13:46Z</dcterms:created>
  <dc:creator>user</dc:creator>
  <dc:description/>
  <dc:language>en-US</dc:language>
  <cp:lastModifiedBy>user</cp:lastModifiedBy>
  <dcterms:modified xsi:type="dcterms:W3CDTF">2010-02-23T22:53:33Z</dcterms:modified>
  <cp:revision>5</cp:revision>
  <dc:subject/>
  <dc:title>Big 6 Lesson Plan</dc:title>
</cp:coreProperties>
</file>